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ECC8-CD75-4E8E-A94D-7582495A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4317-705E-49BE-84ED-E56486E9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C79A-937B-49BF-8033-2C6AF260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0FA6-55B2-46B2-8E16-6AF10C07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C14D-D6D5-4AB3-B312-5B69B1B1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94A-37D9-4279-933B-F408CA35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6B48-06F2-4A0C-B1D2-170CF8E4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9AC8-3934-473B-9731-F36C3745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92EF-E918-40DB-B127-00475CD4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6FC-ACC9-41FD-BCA6-80BE2B77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CCE6-EB77-47DA-8EDE-DD91C073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87C3-D338-420C-81BA-54AA7654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9841-CD33-48D1-B506-701F13E6F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hrases and Clau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ast word of the phrase is the MAIN 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ds that precede, come before, the main verb are AUXILLIARIES or AUXILLIARY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has been </a:t>
            </a: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cooking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;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were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crawling;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has </a:t>
            </a: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disappeared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an expression like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e has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erb phrase is incomplete and said to be ELLIPTIC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e has (be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e ha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(had) 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is birthday)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00"/>
                </a:solidFill>
                <a:latin typeface="Arial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ay; might; can; could; will; would; shall; should; must; ought;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y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can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e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ight arriv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omorr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I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ust have lost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my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00"/>
                </a:solidFill>
                <a:latin typeface="Arial"/>
              </a:rPr>
              <a:t>Finite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non-finite</a:t>
            </a:r>
            <a:r>
              <a:rPr b="0" lang="en-GB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sappe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disappearing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omebody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speaks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few minutes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Speaking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few minutes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e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entioned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vidence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Mentioning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vidence…….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y to the difference is to do with an important distinction within the functioning of langu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Finite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 can function independently as communications with an adressee (ie, telling us somethin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sappeared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 declarative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d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the ship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sappear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Non-finite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ions do not distinguish between telling and 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disappearing….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distinguish between telling and 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Finite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ions have a subject and a verb;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Non-finite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ions need not have a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99"/>
                </a:solidFill>
                <a:latin typeface="Arial"/>
              </a:rPr>
              <a:t>Adjectival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Arial"/>
              </a:rPr>
              <a:t>Adjectival phr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 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say ‘every chair’ but not ‘every hot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noun phr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oun head may have a determiner, while adjective heads cannot have a determi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ds modifying the adjective are called INTENS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say ‘terribly hot’ but not terribly chair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99"/>
                </a:solidFill>
                <a:latin typeface="Arial"/>
              </a:rPr>
              <a:t>Adjectival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sifi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ome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Terribl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har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difficul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ho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Noun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ressions in which nouns form the principal or main element (e.g. a chair, the university, my car) are ca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noun phr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s can be plural; while adjectives cannot b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The men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were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990099"/>
                </a:solidFill>
                <a:latin typeface="Arial"/>
              </a:rPr>
              <a:t>hungries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*not possible as a sentenc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The men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were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sic sentence patter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he last tra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has arriv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( C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Your uncle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left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a message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he last train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has arrived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already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( C 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Your uncle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left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a message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yesterday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he counsellors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seem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very determined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this week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s work is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keep th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un is set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jury found her innocent after two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might send me an inv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bordination and co-ordin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IMPLE sentence consists of one cl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uses can be combined to make COMPLEX sentences: ie, sentences with more than one cla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ways in which clauses in simple sentences can be combi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-ord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-ordi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-ord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clause equ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.g. The man shot his horse (and) (he) took the carcass to the glue fa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th clauses equal sta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b-ord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clause is involved within the structure  of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The girl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who was drinking a glass of wine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e a red dress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Noun 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ain element of the phrase is the noun, called the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an be preceded by a subsidiary element called the MODIF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i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ll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d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ifiers often determ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types of modifier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jectives –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is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larg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ouse; a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cruel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eception;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valuable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s – so that a phrase may have two nouns, one acting as the head and the other as a modifier –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an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education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policy; the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hous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plans;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furnitur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catalog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st Mod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 phrases can also have modifying elements coming after the head: called Post-modifi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men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outsid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people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exclu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Prepositional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noun phrase begins with a preposition, then it is known as a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repositional phr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E.g. By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he dog;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to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your employer;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with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hose cow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repositional phras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ve two elemen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INITIATING element: ie, the preposition itself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OMPL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repositional phras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occur or come after the head of a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noun phrase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nown as post-modifiers of the head. E.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letter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o your employer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administration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f the schools.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Verb phr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‘verb’ element in a clause need not necessarily be just a single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made up of several verb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as been cooking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were crawling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as disappea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1:05:27Z</dcterms:created>
  <dc:creator>student</dc:creator>
  <dc:description/>
  <dc:language>en-US</dc:language>
  <cp:lastModifiedBy>foxra</cp:lastModifiedBy>
  <dcterms:modified xsi:type="dcterms:W3CDTF">2009-02-17T16:25:43Z</dcterms:modified>
  <cp:revision>7</cp:revision>
  <dc:subject/>
  <dc:title>Phrases and Clauses </dc:title>
</cp:coreProperties>
</file>